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FB3-20DB-4508-9E8B-ECF4359D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4F-564F-4DB4-BB23-3CA6968F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6DA-1C40-41FB-9264-F50506B9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0CF-B065-477E-856B-0C9895B8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B777-3666-4828-8357-D49A12EC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840B-F3AD-476C-A4CD-3C31842D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1C13-299B-4020-A4FD-28759CC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9AA-9BFE-4768-BCAE-64452CC4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86E-DFF5-47FA-BCD5-BA403BE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38E-1721-40BE-869E-F1CEEF3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85C-1EB1-430E-B43E-09CC682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2B6-0690-4E95-9FC7-AF0DAD6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C118-B0FC-4525-8030-83FA5E1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9E2-C8A6-4F63-85EC-2EDD079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8C3-E8CA-4B64-9C6D-648C66E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658A-A5E7-4861-84A2-FFE23BDE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2087-89AB-446F-8585-703B4281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D19-12EA-47DD-9BAF-762A0FE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25F-1647-4E2F-B5A6-91268EE4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883-DFA4-4B05-B72B-00F0DFF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6FA-F65A-47FB-9931-3317AC6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118-46F1-45E0-9CAE-CC408FCF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831-D51F-429B-A920-F6202FA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536-F1C4-444A-88A9-2364371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4FF-4D24-4A20-810A-55D0A1308E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5FF-1190-48CC-916C-82CEBCF973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Základní škola a Mateřská škola </a:t>
            </a:r>
            <a:br>
              <a:rPr sz="2000"/>
            </a:b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při nemocnici Ústí nad Orlicí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si Vás dovoluje 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pozvat na </a:t>
            </a:r>
            <a:br>
              <a:rPr sz="2000"/>
            </a:br>
            <a:br>
              <a:rPr sz="16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„Živé kreslení a hádání veselých obrázků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s malířem Janem Honzou Lušovským“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konané dne 28. dubna 2009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v 10 hod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na dětském oddělení větších dětí Orlickoústecké nemoc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ahoma"/>
              </a:rPr>
              <a:t>za podpory města </a:t>
            </a: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Ústí nad Orlic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373720"/>
            <a:ext cx="777960" cy="93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176560" cy="202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0:55:24Z</dcterms:created>
  <dc:creator>ZŠ a MŠ při nemocnici</dc:creator>
  <dc:description/>
  <dc:language>en-US</dc:language>
  <cp:lastModifiedBy>ZŠ a MŠ při nemocnici</cp:lastModifiedBy>
  <dcterms:modified xsi:type="dcterms:W3CDTF">2009-04-20T11:21:21Z</dcterms:modified>
  <cp:revision>2</cp:revision>
  <dc:subject/>
  <dc:title>Základní škola a Mateřská škola při nemocnici Ústí nad Orlicí  si Vás dovoluje   dne 28. dubna 2009 v 10 hod. pozvat na   „Živé kreslení a hádání veselých obrázků s malířem Janem Honzou Lušovským“</dc:title>
</cp:coreProperties>
</file>